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FCF2-0EC6-48BF-AADF-F5355715D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4B6A-3A11-4A20-AED7-47035EF35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A7C1-5821-455F-BEBC-C88176216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FE99-46B8-4F6B-B580-6FEF6C495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D2E8-F53D-482C-82AA-560D71F0E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F05C-1FFF-46FE-975A-CB8425954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E819-3E9F-4DCF-9A50-9B26D85E8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AA75-7419-46CE-B0D6-8C84E3A8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C6D3-A06C-4F6B-91E1-8E244CA5D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A491-305C-4549-B67F-AA46F244B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84F1-7B58-42BF-8760-D6A09569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AF52-EE12-4818-89B6-11520D47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0862-1A32-4EB2-9AF3-74F6D6D1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1F64-87AC-481E-83FA-010CCA0D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3A5E-F8DB-44F7-8448-B63257FD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DB59-F4E0-4915-B0B9-CD21E952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E1F2-BB33-4EBD-ACF7-AA538E29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7630-E1A2-4034-97D2-4D9F7707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5D4A-C881-4EBC-9255-6E481ACE8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600200" y="0"/>
            <a:ext cx="51814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nne Frank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048120" y="62485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Bailey Jacob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annefrank.jpg"/>
          <p:cNvPicPr/>
          <p:nvPr/>
        </p:nvPicPr>
        <p:blipFill>
          <a:blip r:embed="rId1"/>
          <a:stretch/>
        </p:blipFill>
        <p:spPr>
          <a:xfrm>
            <a:off x="2209680" y="2590920"/>
            <a:ext cx="348624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5"/>
          <p:cNvSpPr/>
          <p:nvPr/>
        </p:nvSpPr>
        <p:spPr>
          <a:xfrm>
            <a:off x="914400" y="2666880"/>
            <a:ext cx="51055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ou will be going on a journey with Anne Frank. You might find out hard it was to be keeping such a big secret from the rest of the world. Well what are you waiting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lets find out mo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6"/>
          <p:cNvSpPr txBox="1"/>
          <p:nvPr/>
        </p:nvSpPr>
        <p:spPr>
          <a:xfrm>
            <a:off x="2286000" y="304920"/>
            <a:ext cx="4876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Introduc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834 0.46921 C -0.24375 0.47268 -0.23125 0.48148 -0.21754 0.48866 C -0.204 0.48796 -0.18976 0.49051 -0.17674 0.48518 C -0.15139 0.475 -0.12552 0.45162 -0.10052 0.44467 C -0.08924 0.43472 -0.0974 0.41296 -0.09914 0.39745 C -0.1 0.38032 -0.09931 0.3544 -0.10573 0.33773 C -0.11164 0.32245 -0.10799 0.33518 -0.11233 0.32199 C -0.11563 0.31227 -0.11841 0.30324 -0.12414 0.2956 C -0.12674 0.28588 -0.13368 0.28495 -0.13993 0.27986 C -0.15052 0.2713 -0.15938 0.26574 -0.17153 0.26227 C -0.175 0.26342 -0.18125 0.26111 -0.18212 0.26574 C -0.18438 0.27708 -0.18368 0.30787 -0.17674 0.32199 C -0.1757 0.32986 -0.17344 0.33565 -0.17153 0.34305 C -0.17414 0.35185 -0.17604 0.35694 -0.18212 0.36227 C -0.18368 0.3706 -0.18664 0.37893 -0.19132 0.38518 C -0.19254 0.39375 -0.19236 0.39977 -0.19914 0.40255 C -0.1941 0.4044 -0.18959 0.40741 -0.18473 0.40972 C -0.18368 0.41157 -0.179 0.41829 -0.17934 0.42199 C -0.18039 0.43287 -0.18768 0.44143 -0.19514 0.44467 C -0.20382 0.45555 -0.21754 0.44768 -0.22813 0.44467 C -0.23351 0.44005 -0.2349 0.43935 -0.24132 0.4412 C -0.24341 0.44421 -0.24653 0.4463 -0.24792 0.45 C -0.25104 0.45833 -0.24653 0.46042 -0.25434 0.46412 C -0.25747 0.46805 -0.25625 0.46643 -0.25834 0.46921 Z">
                                      <p:cBhvr>
                                        <p:cTn id="6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he was born in Frankfurt Germa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he was 15 when she d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he had a sister named Marg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he died at Bergen Bel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er parents names were Otto and Edi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he was in hiding for two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er dad published the b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he knew  that it would be hard to keep such a big secret from the rest of the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1219320" y="2286000"/>
            <a:ext cx="5638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t is open all year round. Are price is free are diet is low fat. Water can only be used in the bathroom ( sorry no baths.) They used a tin tub after 9:00 A.M. to wash. They can wash in the down stairs lavatory, kitchen, front or privet office. At 6:00 P.M. they listen to a radio. They have to sleep at 10:00  P.M – 7:30 A.M (10:15 on Sundays ) Whisper at all times and no German. Anne and Margot learn English, history, and math each day. They eat breakfast at 9:00 A.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5"/>
          <p:cNvSpPr txBox="1"/>
          <p:nvPr/>
        </p:nvSpPr>
        <p:spPr>
          <a:xfrm>
            <a:off x="1752480" y="457200"/>
            <a:ext cx="5867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Sylfaen"/>
              </a:rPr>
              <a:t>Guid to the seceret Anne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Sylfaen"/>
              <a:ea typeface="Sylfaen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icture from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  <a:hlinkClick r:id="rId1"/>
              </a:rPr>
              <a:t>www.googl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formation from Anne Frank By Susanna Davidson and The Dairy of Anne F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6"/>
          <p:cNvSpPr txBox="1"/>
          <p:nvPr/>
        </p:nvSpPr>
        <p:spPr>
          <a:xfrm>
            <a:off x="3276720" y="457200"/>
            <a:ext cx="3657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Credit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23:08:45Z</dcterms:created>
  <dc:creator>Jason Jacobson</dc:creator>
  <dc:description/>
  <dc:language>en-US</dc:language>
  <cp:lastModifiedBy>nauczyciel005n</cp:lastModifiedBy>
  <dcterms:modified xsi:type="dcterms:W3CDTF">2009-01-15T12:26:31Z</dcterms:modified>
  <cp:revision>8</cp:revision>
  <dc:subject/>
  <dc:title>Slide 1</dc:title>
</cp:coreProperties>
</file>